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4E8-9A9E-4C41-9895-DEF52132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A3C-9A3F-4951-A2F8-169F3F6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88F-C795-4B65-9C05-38D1650D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E1E-B0BD-42A6-97B5-EBEA55B7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239-41BB-43CA-81A2-61D06220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0EA-897F-407E-A004-31C6899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DFC-E4D1-4D66-B76C-06DD578B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3FE-3E31-4532-BAA6-AC73184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09E-4F91-48BE-9ECA-3A81D0B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492-9DAD-4C82-8239-8688AFC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56-593B-46A3-BA39-A193D15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6D5-BC57-4D37-B842-A737AFCC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9F8E-6BBF-4116-883C-60F084D7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take a tri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and we are here to tell  you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from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142 million miles from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take 250 days to travel to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077320" cy="38862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made up of carbon Di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possible to surv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terrestrial which means its made of ro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3886200" cy="22096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78,300,000 mil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 are 7 month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on mars is 686 days Yes there storms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s you would weigh 104 compared to 96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you will not be able to survive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traveled to mars you would have to explore around mars. Also you will see a lot of red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not something you would want to liv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on mars there are evidence that there is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51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78272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Arial"/>
              </a:rPr>
              <a:t>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400" y="32004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scar and Chantel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2:29:42Z</dcterms:created>
  <dc:creator>Jeff Lewis</dc:creator>
  <dc:description/>
  <dc:language>en-US</dc:language>
  <cp:lastModifiedBy>teacher</cp:lastModifiedBy>
  <dcterms:modified xsi:type="dcterms:W3CDTF">2008-10-22T03:08:36Z</dcterms:modified>
  <cp:revision>18</cp:revision>
  <dc:subject/>
  <dc:title>Name of your planet here</dc:title>
</cp:coreProperties>
</file>